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5FE-C616-48BB-846F-DA9C054E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0BA-9A73-4F57-BFE8-83625E4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0CC-85A4-424E-B7C6-2A5A4E8E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9C1-1CDF-44FF-9499-5C6F29F0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0B6-BC4A-4516-A7DA-4C22DF8D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C25-4056-4371-B054-08F48498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52B-C231-454F-BB27-D5B77FD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45F-FABF-4817-B6E5-D32A25D7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74B-91CD-4E6C-8403-FC7ED22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4C0-6B8B-4FFE-91A7-CC5E52C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988-F7DC-46FE-9D04-2FAE231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D52-1901-4050-872E-F6ADA7F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1A9D-AD79-4AA7-93D7-4A67CFBA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2828880" cy="33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8600"/>
            <a:ext cx="6477120" cy="845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686800"/>
            <a:ext cx="6632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S 1415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SEP 04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31440" y="379080"/>
            <a:ext cx="36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120" y="5059080"/>
            <a:ext cx="52250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ARMY SOLDIER SUPPORT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SET # 1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7480" y="6977520"/>
            <a:ext cx="59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Commitment and Oblig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8320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4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2560" y="6519960"/>
            <a:ext cx="1195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ary C. Gera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93480" y="6519960"/>
            <a:ext cx="8370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Jerry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0520" y="705312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7280" y="8348760"/>
            <a:ext cx="13827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Golden 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23200" y="8686800"/>
            <a:ext cx="62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48520" y="655308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97440" y="7891560"/>
            <a:ext cx="1019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rthur B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50920" y="396720"/>
            <a:ext cx="455616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 COMMITMENT AND OBLIGATION RECO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SET NUMBER 14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5360" y="1552680"/>
            <a:ext cx="6408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:  Given a requirement to maintain Internal Commitment and Obligation Records and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cess to blank Commitment and Obligation Documents and standard offic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pplies and equip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:        The student will maintain Internal Commitment and Obligation  (Fund Control)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:   In accordance with previous instructions, the STANFINS User’s Manual, DFAS-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IN Regulation 37-1, and DODFMR Volume 1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TUATION: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You are assigned to the 54th Mechanized Infantry Division at the Division Resour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ment Office. Because of unusually high tensions between European All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viet Block countries, the 54th Mechanized Infantry Division has been moved to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uropean Thea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LTC Aaron Wilson is the Fund Certifying Officer for the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MSCO 202011.00, APC A111) and K. Newsom, DAC, is the Fund Certifying Officer for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4th Medical Battalion (AMSCO 202014.00, APC A321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MENT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Post all financial information to the appropriate commitment and obligation  (fund control)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Maintain the Uncommitted Balance of Funds Availa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Today’s date is 5 October **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8080" y="1066680"/>
            <a:ext cx="644652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JKG-B                                                                                                                       1 October **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MORANDUM FOR:   Commander, 54th Mechanized Infantry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N:  Resource Management Offic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JECT:   First Quarter  (FY**)  Funding Targ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 AMSCO  202011.00,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C A111,  A32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DAAC  ZAAHA,  Z16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 Direct obligation  (Initia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Quarter     $590,000.00,     26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nnual   $2,400,000.00      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 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.   Funded Reimbursement Authority (FRA) - Not Authoriz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Automatic Reimbusrement Authority (ARA) - Authorized based on receipt of ord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.   POL not included at company level, charged to HHC (W53BN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 a.   202011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O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QT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5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 1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,0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65,000.00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3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59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$2,4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.   202014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0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75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5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200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3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260,000.0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$985,000.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840" y="0"/>
          <a:ext cx="6827760" cy="9144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0"/>
                    <a:ext cx="682776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23920" y="885204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10476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76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3000" y="6469200"/>
            <a:ext cx="937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MARY SCHUT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8480" y="8167680"/>
            <a:ext cx="923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A. N. PURC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42240" y="8924760"/>
            <a:ext cx="227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6800" y="8928000"/>
            <a:ext cx="6273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-152280"/>
          <a:ext cx="68580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68580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068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700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44400" y="659592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0520" y="712944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3920" y="8686800"/>
            <a:ext cx="6220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S 1415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8000" y="7891560"/>
            <a:ext cx="808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B.C. 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37:12Z</dcterms:created>
  <dc:creator>Joseph Pecorella</dc:creator>
  <dc:description/>
  <dc:language>en-US</dc:language>
  <cp:lastModifiedBy>Administrator</cp:lastModifiedBy>
  <cp:lastPrinted>2000-01-24T16:37:43Z</cp:lastPrinted>
  <dcterms:modified xsi:type="dcterms:W3CDTF">2005-05-02T19:56:06Z</dcterms:modified>
  <cp:revision>19</cp:revision>
  <dc:subject/>
  <dc:title>No Slide Title</dc:title>
</cp:coreProperties>
</file>